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5C18-2DA8-4F3B-A08B-84AF3E90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FCDD-3EA3-4266-A195-DA2ABA0C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0E2-CA5F-4B21-A284-83C0ED03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66DF-B792-4653-B0C7-6C6B7C1E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BCB-B0C9-4F04-97E9-B382F434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6F6-732D-40BA-B192-662E7283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CA70-5C90-4396-BFCA-194A3D97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9891-9CD3-49A7-9863-836A56C7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92E-1C2C-4987-9A31-53D403C4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222-42E5-45C7-B8BB-8278E77C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64E-24BA-4330-BB3E-362CDF84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855-94E9-4A51-A171-9DD9FEC8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603C-B613-4613-8E0A-AABEC8D7953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209520"/>
            <a:ext cx="8136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353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ن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يونس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نبي الله يونس عليه السلام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0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إس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نبوة و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توحيد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عوة للإيمان بالرسالات السماو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قصة يونس عليه ال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نجاة قوم يونس لما آم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3T20:49:25Z</dcterms:modified>
  <cp:revision>1788</cp:revision>
  <dc:subject/>
  <dc:title>عرض تقديمي في PowerPoint</dc:title>
</cp:coreProperties>
</file>